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DF2E-C18A-4DE8-AB4D-57658DA4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8360-FC98-44E6-859C-57DF6DEA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01B7-2BFB-409E-90CE-B5056AED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492B-B18C-4CC4-9C63-AAEC4B13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44F2-51A2-4537-B5C2-7061F504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CB84-3342-415D-A5D4-87E898B2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8A34-29AC-41E2-AED8-43ED70A3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B44F-20C3-44DB-B2F2-9ADCC33D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BC78-0EF8-483F-BC28-4B563A8C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EB8D-BF81-43FA-964B-F4609EEC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6976-6028-4E7B-AADD-6999571D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2D1E-097B-4FF9-A956-E452489F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8970-C935-4904-8CC0-66DB98B4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6646-09E9-4AB7-B6B8-A194D854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33D1-6F47-4E51-BA34-A320A70A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0807-341D-4062-B98F-EAF1E1A6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83DF-DC1E-438B-AFAE-216ABB94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13B4-7A04-48DF-9D1B-62232E43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C60F-E78A-4D38-9D74-99BF02E1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859B-73C8-4619-A935-E55ED8C2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D375-389D-46D8-A21B-89CD57A2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3CEC-542A-44F9-B29C-3DB7A4CF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9AB7-7815-49CC-9D32-FB820A49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73EF-BB9A-4BC0-825E-BA296859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oybean%20fiel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9332-7E87-4CDE-8848-61D2BBB57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20BCE-492C-4CDE-B1BE-B74392D96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ating Lower on the Food Cha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brown_swiss"/>
          <p:cNvPicPr/>
          <p:nvPr/>
        </p:nvPicPr>
        <p:blipFill>
          <a:blip r:embed="rId1"/>
          <a:stretch/>
        </p:blipFill>
        <p:spPr>
          <a:xfrm>
            <a:off x="1371600" y="3505320"/>
            <a:ext cx="6248520" cy="2835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/>
          <p:cNvSpPr/>
          <p:nvPr/>
        </p:nvSpPr>
        <p:spPr>
          <a:xfrm>
            <a:off x="6858000" y="3200400"/>
            <a:ext cx="2286000" cy="1905120"/>
          </a:xfrm>
          <a:prstGeom prst="wedgeEllipseCallout">
            <a:avLst>
              <a:gd name="adj1" fmla="val -70208"/>
              <a:gd name="adj2" fmla="val 62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7086600" y="35812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hh, girls!!    I want to hear about this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t Petroleu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487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ericans consume nearly as much fossil fuels at the supermarket as at the gas pum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ypical American burns about 530 gallons of gas each year driv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ating a meat based diet gobbles up an additional 400  gallons of oi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380520"/>
            <a:ext cx="74674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acre of corn requires 140 gallons of oil to produc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ting corn directly maximizes the energy invest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the corn goes to livestock, only about a fifth of the protein is returned as food, four-fifths is l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dditional tid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bout 80%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all antibiotics produced in the US are used for food animal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ign originated veggies may have been sprayed 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.A. water is full of DDT, washed off from foreign fruits and vegg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DT is stored in fat – linked to breast cancer (90% breast cancer patients have DDT in their syst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on of Concerned Scientists: List of Top Things You Can Do to Help the Pla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1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rive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2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at less red meat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iry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3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erve on heating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oling costs in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w products are the wor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45716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arly  87% of our agricultural land (50% for cows alone!) is engaged in animal production for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grass-cows"/>
          <p:cNvPicPr/>
          <p:nvPr/>
        </p:nvPicPr>
        <p:blipFill>
          <a:blip r:embed="rId1"/>
          <a:stretch/>
        </p:blipFill>
        <p:spPr>
          <a:xfrm>
            <a:off x="1905120" y="990720"/>
            <a:ext cx="5790960" cy="29718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0"/>
          <p:cNvSpPr/>
          <p:nvPr/>
        </p:nvSpPr>
        <p:spPr>
          <a:xfrm>
            <a:off x="6781680" y="1143000"/>
            <a:ext cx="1828800" cy="1600200"/>
          </a:xfrm>
          <a:prstGeom prst="wedgeEllipseCallout">
            <a:avLst>
              <a:gd name="adj1" fmla="val -43750"/>
              <a:gd name="adj2" fmla="val 471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BEG YOUR PARD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.S. Crop % that goes to feed c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 -  90% of our soybeans, oats, wheat and 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cow-eating"/>
          <p:cNvPicPr/>
          <p:nvPr/>
        </p:nvPicPr>
        <p:blipFill>
          <a:blip r:embed="rId1"/>
          <a:stretch/>
        </p:blipFill>
        <p:spPr>
          <a:xfrm>
            <a:off x="4572000" y="1676520"/>
            <a:ext cx="4038480" cy="437976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8"/>
          <p:cNvSpPr/>
          <p:nvPr/>
        </p:nvSpPr>
        <p:spPr>
          <a:xfrm>
            <a:off x="609480" y="4572000"/>
            <a:ext cx="5791320" cy="1143000"/>
          </a:xfrm>
          <a:prstGeom prst="wedgeEllipseCallout">
            <a:avLst>
              <a:gd name="adj1" fmla="val 47726"/>
              <a:gd name="adj2" fmla="val 47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!  You have a problem with t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w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1536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takes 16 lbs of wheat to make 1 lb of c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00 gallons of water per lb of cow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A lb of soybeans only takes about 260 gallons of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t Wa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ypical North American Diet requires twice as much water to produce as less meat-intensive diets common in Asia and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ting  lower on food chain :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ame water could feed double the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ing animal products use ½ the water in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dairy cow drinks about 29 gallons of water a day, and needs 40 additional gallons for sanitation, producing only 8 gallons of m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llution (Deep Doo-Doo!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 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gricultural runoff = major pollution source for U.S. polluted rivers and stre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ag. = 130 times more than human waste and equivalent to 5 tons per per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IT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EATED BY A SEWAGE TREATMENT PL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nure from a 200-head dairy operation produces as much nitrogen as sewage from a town of 10,000 peop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airy cow produces 120 lbs of waste a day, 12 times as much as a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total of 22 tons per  cow per y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t Tre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696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ting a plant based diet personally saves an acre of trees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0 million acres of U.S. forests have been cleared for livestock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ur foreign suppl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out Central and South America, grazing and feed grain production are the leading economic forces behind rainforest destruc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quarter lb hamburger costs Mother Nature 55 square feet of forest l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.S. is the world’s top beef impor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ast food restaurant can claim are not required to declare the 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origin of their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22:10:32Z</dcterms:created>
  <dc:creator>tosborne</dc:creator>
  <dc:description/>
  <dc:language>en-US</dc:language>
  <cp:lastModifiedBy>infosys</cp:lastModifiedBy>
  <dcterms:modified xsi:type="dcterms:W3CDTF">2015-10-22T23:21:26Z</dcterms:modified>
  <cp:revision>18</cp:revision>
  <dc:subject/>
  <dc:title>Eating Lower on the Food Chain</dc:title>
</cp:coreProperties>
</file>